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3CE-AAA3-4EAB-B270-6A45F65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6E5-113B-426E-A5E8-42DC5A9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E17-33D6-4C70-9A83-8DF05799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79E-E1EE-40AB-BA96-AFF0FC21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899-5D46-4F73-BE72-B8957B6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B31-04CA-4CF9-A051-2E9D3942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5FB-6E50-4945-B54D-85EB6C7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185-88D8-40F2-BF7B-923DF20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36F-BF06-41EB-9A31-0E22DA2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727-CB49-4311-B9AF-FD90B1B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ECE-2248-4595-ADB9-C051A09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808-8F38-4E2D-8DA5-6A6FCBB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0E92262-3102-48CF-B634-12553D29C8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89000" y="18900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tage de fin d’études – Blaise LEN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6667560"/>
            <a:ext cx="441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R32 UC3000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800" spc="-1" strike="noStrike">
                <a:solidFill>
                  <a:srgbClr val="0060aa"/>
                </a:solidFill>
                <a:latin typeface="Arial Black"/>
              </a:rPr>
              <a:t>Conception d’une librairie de traitement du signal </a:t>
            </a:r>
            <a:br>
              <a:rPr sz="2800"/>
            </a:br>
            <a:r>
              <a:rPr b="1" i="1" lang="fr-FR" sz="2800" spc="-1" strike="noStrike">
                <a:solidFill>
                  <a:srgbClr val="0060aa"/>
                </a:solidFill>
                <a:latin typeface="Arial Black"/>
              </a:rPr>
              <a:t>optimisée pour l’AVR32 UC3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716280"/>
            <a:ext cx="712944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mel Nantes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ise LENGRAND –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nctions – séparées en 2 librai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ba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ra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enêtr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sign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bo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avancé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ssion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ADPC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éléphoni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CallerId, CAG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gulat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6BD-EE35-468E-8D27-2008D3B2F3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à virgule-fixe sur 16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eurs réels et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ti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de compilable sous AVR32-GCC et I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générique (codée en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compatibles avec les types 16 bits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tions d’optimisation de l’algorithmiqu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itesse, en taille et en préc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524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2C1-7AA5-4DE2-9529-A04431AE4F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Gestion de proje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3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prévisio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de GANT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s à jours rég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en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61636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1628640"/>
            <a:ext cx="33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effe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 hebdomadaire (Weekl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920-3B4E-42CC-9B8E-64822A6121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chitecture de la librair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54000" y="2543040"/>
          <a:ext cx="6445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543040"/>
                    <a:ext cx="6445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E4B-1AA9-4D21-A86D-B07329017C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640" y="1811160"/>
          <a:ext cx="5862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11160"/>
                    <a:ext cx="5862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D8D-3F55-471E-8238-D4B994224C0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3) - 1</a:t>
            </a:r>
            <a:r>
              <a:rPr b="1" lang="fr-FR" sz="2400" spc="-1" strike="noStrike" baseline="30000">
                <a:solidFill>
                  <a:srgbClr val="0060aa"/>
                </a:solidFill>
                <a:latin typeface="Arial Black"/>
              </a:rPr>
              <a:t>ère</a:t>
            </a: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 phase - Concep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de documentations sur les algorithmes utilisé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et validation des algorithmes avec l’outil Scila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165-33BB-4A4C-AF56-FED974AC23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3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génériques (16 et 32 bit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araisons des résultats avec ceux de la conception (Scilab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outils personnalis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tits programmes codés en C sous Windows pour récupérer, extraire et afficher les résultats afin d’en faciliter l’analy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1135" t="13312" r="16362" b="34301"/>
          <a:stretch/>
        </p:blipFill>
        <p:spPr>
          <a:xfrm>
            <a:off x="5076720" y="4869000"/>
            <a:ext cx="2376720" cy="149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437000"/>
            <a:ext cx="5112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5368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 et en assembl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0160" indent="-19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même que pour les versions gén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7667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21360" indent="-25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optimis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A81-A52D-45C9-81DF-23B20A9DD0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4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cation de bugs (liés aux outils principa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gzill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osition d’une nouvelle instruction à rajouter au jeu d’instruction de l’AVR32 UC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div2hh.w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div2hh.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’exemple de la FFT, cette instruction ferait gagner jusqu’à 20% de temps d’exécution de l’algorith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8 fonctions cod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4287960"/>
          <a:ext cx="7056360" cy="2190600"/>
        </p:xfrm>
        <a:graphic>
          <a:graphicData uri="http://schemas.openxmlformats.org/drawingml/2006/table">
            <a:tbl>
              <a:tblPr/>
              <a:tblGrid>
                <a:gridCol w="2096280"/>
                <a:gridCol w="2025720"/>
                <a:gridCol w="293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ba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avanc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6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3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7F5-2208-4E78-953E-79C19F0BB4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rê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 positionner par rapport à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nception et le développ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ation d’un script pour automatiser le process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’un fichier de configur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upér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loit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ractions des données importan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cul du taux d’erreur avec un résultat de référ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 des résultats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E37-F561-4B41-91CE-0858CF0885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araison entre les versions génériques (codées en C) et optimisées des fonctions de la DSP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 pourcentage du temps mis pour exécuter la version générique de la fonction concerné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2975040"/>
            <a:ext cx="7372440" cy="3362040"/>
            <a:chOff x="189000" y="2975040"/>
            <a:chExt cx="7372440" cy="3362040"/>
          </a:xfrm>
        </p:grpSpPr>
        <p:graphicFrame>
          <p:nvGraphicFramePr>
            <p:cNvPr id="156" name=""/>
            <p:cNvGraphicFramePr/>
            <p:nvPr/>
          </p:nvGraphicFramePr>
          <p:xfrm>
            <a:off x="189000" y="2975040"/>
            <a:ext cx="7372440" cy="32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000" y="2975040"/>
                      <a:ext cx="7372440" cy="32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87640" y="6060960"/>
              <a:ext cx="93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8D4-6A62-40BC-9859-41C2501917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ommaire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’entre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s produits 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a « Software Framework 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hier des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 la DSPL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DB1-649D-4D2B-B823-75F7285FC8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3) – FF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1520" y="2419200"/>
            <a:ext cx="7566120" cy="3601800"/>
            <a:chOff x="101520" y="2419200"/>
            <a:chExt cx="7566120" cy="3601800"/>
          </a:xfrm>
        </p:grpSpPr>
        <p:grpSp>
          <p:nvGrpSpPr>
            <p:cNvPr id="162" name=""/>
            <p:cNvGrpSpPr/>
            <p:nvPr/>
          </p:nvGrpSpPr>
          <p:grpSpPr>
            <a:xfrm>
              <a:off x="101520" y="2419200"/>
              <a:ext cx="7276680" cy="2207520"/>
              <a:chOff x="101520" y="2419200"/>
              <a:chExt cx="7276680" cy="2207520"/>
            </a:xfrm>
          </p:grpSpPr>
          <p:graphicFrame>
            <p:nvGraphicFramePr>
              <p:cNvPr id="163" name=""/>
              <p:cNvGraphicFramePr/>
              <p:nvPr/>
            </p:nvGraphicFramePr>
            <p:xfrm>
              <a:off x="272880" y="2419200"/>
              <a:ext cx="7105320" cy="10569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2880" y="2419200"/>
                        <a:ext cx="7105320" cy="105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"/>
              <p:cNvGraphicFramePr/>
              <p:nvPr/>
            </p:nvGraphicFramePr>
            <p:xfrm>
              <a:off x="101520" y="3350880"/>
              <a:ext cx="6981480" cy="1275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520" y="3350880"/>
                        <a:ext cx="6981480" cy="12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" name=""/>
            <p:cNvGrpSpPr/>
            <p:nvPr/>
          </p:nvGrpSpPr>
          <p:grpSpPr>
            <a:xfrm>
              <a:off x="155520" y="4411440"/>
              <a:ext cx="7512120" cy="1609560"/>
              <a:chOff x="155520" y="4411440"/>
              <a:chExt cx="7512120" cy="160956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55520" y="4411440"/>
              <a:ext cx="7512120" cy="16095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520" y="4411440"/>
                        <a:ext cx="7512120" cy="160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754200" y="4468320"/>
                <a:ext cx="233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000" spc="-1" strike="noStrike">
                    <a:solidFill>
                      <a:srgbClr val="000000"/>
                    </a:solidFill>
                    <a:latin typeface="Arial"/>
                  </a:rPr>
                  <a:t>Aucune donnée disponible pour dsP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D6F-9E89-4560-ADF5-1D69E138E05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4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5600" y="2525760"/>
          <a:ext cx="6580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525760"/>
                    <a:ext cx="6580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B56-0F65-491E-B361-9298A2D4C48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5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6360" y="2325600"/>
          <a:ext cx="651528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65152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DE2-54EE-4CA2-9358-E3E5E6D4634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6) – « TI Bench »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 proposant de multiples code sources permettant d’évaluer globalement les performances d’un microcontrôle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.I. fournit aussi les résultats du « TI Bench » exécuté sur de nombreux microcontrôleurs: dsPIC, ARM7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loitation des résult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en placé par rapport à la concurrence dans l’ensem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uvaise gestion des nombres à virgules-flotta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E87-B294-4F57-9B44-21BA7F039F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ocumenta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le code est documenté en Doxygen, de même pour chacun des exemp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’une documentation complète appelée « profile » pour les fonctions importan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 de « readme.html » permettant de naviguer rapidement dans l’architecture de la librairie et d’en ressortir les fonctionnalités princip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5B2-429B-4E9A-B15F-510DBADAD4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Apport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’entrepr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’une librairie complète de traitement du signal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ment de différents bugs (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sition d’amélioration du cœur 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ation de petits travaux: TI Bench, présent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m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optimisation d’algorithme et de code (assembleur et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traitement du sign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documentations techniques destinées aux clients et aux usages inter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llaboration avec d’autres ingénie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duite d’un projet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01A-416C-4320-8474-C64CC8A2BEF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consom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spose de mémoire FL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cture/Ecriture de la SRAM interne en 1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nombreuses fonctionnalités do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ull speed USB 2.0 OT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hernet 10/100 Mbits 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es canaux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u d’instructions D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 Dhrystone MIPS/MH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81400" y="3860640"/>
            <a:ext cx="2879640" cy="205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61977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*) Pour la série A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812-544C-4C44-B293-4AC9735F4D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étages de pipe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-chargement d’une instruction 32 bits ou de deux de 16 bits tous les cycles d’horlo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dage de l’instr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sous-sections: ALU, Multiplication, Lecture/Ecri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51530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F62-D564-4905-A40F-4EC968D4E1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/Ecr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ès aux données de 8, 16, 32 ou 64 bits avec différents modes d’adr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tructions D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C, MUL, ADD/SUB avec décalages et arrond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canismes de protection de la mémoire (MP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densité du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% plus performant que l’ARM7 (Thumb) ou le Cortex M3 (Thumb2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84D-D9D8-4CB0-88D8-19D210D7DD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ésentation de la « Software Framework » 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673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librairie comporta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ri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urnissant une interface permettant de faire abstraction des périphériques du microcontrôleu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nsemble de sous-librairies haut niveau (c’est dans ce module qu’intervient la DSPLib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exemples complets utilisant les services et les driv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3024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264200" y="1677960"/>
          <a:ext cx="32367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4200" y="1677960"/>
                    <a:ext cx="32367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4FD-63EF-46E5-B65F-2175BADB9F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Cahier des charge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d’une librairie de traitement du signal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optimisée pour l’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er et spécifier les principales fonctions de traitement du signal à intégrer dans la librair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a librairie et l’intégrer dans un environnement déjà exis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au mieux les fonctions en exploitant toutes les ressources du microcontrôleu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uer des tests de performances sur les différentes fonctions de la librairie et les comparer avec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A89-2A98-487D-84D4-35056D3FAD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ise en mai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u driver R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es logiciels - AVR32-GNU tool chain, IAR, Tortoise SV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u matériel – JTAG ICE mkII, EVK11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71476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63840" y="285264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966" t="0" r="0" b="0"/>
          <a:stretch/>
        </p:blipFill>
        <p:spPr>
          <a:xfrm>
            <a:off x="5796000" y="271944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2080" y="2786040"/>
            <a:ext cx="14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786040"/>
            <a:ext cx="14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2786040"/>
            <a:ext cx="119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28760" y="4437000"/>
            <a:ext cx="22352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6998" t="4316" r="17137" b="5393"/>
          <a:stretch/>
        </p:blipFill>
        <p:spPr>
          <a:xfrm>
            <a:off x="4102200" y="4581360"/>
            <a:ext cx="205416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132-AE3E-4BD4-A5C6-A2ADBBD1A7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directe (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icroelectronics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TR91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crochip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dsPIC DSC DSP Algorithm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indirecte (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xas Instrument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TMS320C64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librairies disponibles sur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umerix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igLib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cl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l’intermédiair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gis Latawiec (marketeur du produi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40480" y="2790720"/>
            <a:ext cx="8240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226" r="0" b="18015"/>
          <a:stretch/>
        </p:blipFill>
        <p:spPr>
          <a:xfrm>
            <a:off x="6516720" y="1989000"/>
            <a:ext cx="984240" cy="6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89720"/>
            <a:ext cx="7185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dont le produit est équivalent à l’AVR32 UC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mais dont le produit concerné n’est pas comparable avec l’AVR32 UC3 mais qui fournissent eux aussi une librairie DS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255920"/>
            <a:ext cx="158436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BF1-B4E5-43A0-922D-F7A8CFB8A3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23:51Z</dcterms:created>
  <dc:creator>Régis Latawiec</dc:creator>
  <dc:description/>
  <dc:language>en-US</dc:language>
  <cp:lastModifiedBy>user</cp:lastModifiedBy>
  <dcterms:modified xsi:type="dcterms:W3CDTF">2007-07-02T14:27:57Z</dcterms:modified>
  <cp:revision>1511</cp:revision>
  <dc:subject/>
  <dc:title>AVR32 - UC3000 Product Line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