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754-939A-4548-B2B4-36AF7867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72D-A58D-45C1-B64D-69951B4B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365-9E1E-469E-9030-2F1BB3EE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95C-E0D9-49B7-B70A-60B6D9E7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C31-E515-4C1C-BE15-D82244C1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DDA-1FF2-4738-939B-972572EE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C0E-732A-4137-9E93-A55CAF94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25D-1BD9-4735-9A9A-61826559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AEE-A7C6-41BA-91C8-EB63081F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06C-D3B8-489A-B429-50DD21E5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702-B13B-4C71-B10B-3F16F61B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EF4-CED8-403A-B324-8397B93C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AAD780C8-2CB9-41A9-8F62-7D083935BED9}" type="datetime5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695C3CFE-132A-42E8-B04C-17446DFA6CF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28600" y="152280"/>
            <a:ext cx="4876920" cy="320760"/>
          </a:xfrm>
          <a:prstGeom prst="rect">
            <a:avLst/>
          </a:prstGeom>
          <a:solidFill>
            <a:srgbClr val="006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50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Resampling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26370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 1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457200" y="3429000"/>
            <a:ext cx="6781680" cy="37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484-6EA0-40F8-B91C-4280ED689A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46B68-5B61-4E11-8FFD-5DC2702609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usage of real ‘resample’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533520" y="2971800"/>
            <a:ext cx="9296640" cy="511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EAB-E7EE-4B30-8556-A6DC725042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79619-CA40-4CFC-A386-DFE8F714CF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609480" y="3124080"/>
            <a:ext cx="9448560" cy="519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0400" y="59436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62520" y="5791320"/>
            <a:ext cx="121896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5926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below 1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DE9-3FD2-452B-B8A5-0486427AF9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66628-F71F-44E3-A373-1D6D33A26C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628640"/>
            <a:ext cx="7821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2 Kh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518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dB gain obtained at 17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533520" y="3276720"/>
            <a:ext cx="8001000" cy="440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5791320"/>
            <a:ext cx="6094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57440" y="5638680"/>
            <a:ext cx="16765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257800"/>
            <a:ext cx="518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around -6dB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6F6-D646-4357-9D97-101B48152F4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530BB-117B-40B1-A09D-5A9FD06788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Analysi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Use Atmel AVR32 DSP resample function with precalculated Matlab filter coefficients and compare the two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D8C-A1B5-42DA-8EBF-575598B8D0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C4004-2E0D-4E99-BEB8-0D6C375D6A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) Embedded release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280" y="3276720"/>
            <a:ext cx="6858000" cy="377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365760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3580920"/>
            <a:ext cx="121896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312408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3C1-A3B0-4A2B-A94D-E2E262024D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A57CB-3FE5-4EC5-B77D-F1FDF39057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5486400" cy="4116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 bis) Embedded release of Atmel AVR32 DSP resample function with Atmel AVR32 DSP FIR Calculation st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19112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486400" y="3580920"/>
            <a:ext cx="152388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27672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429000"/>
            <a:ext cx="190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Script resul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mbedded 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D56-5E26-4817-B065-C288030679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6B159-A44D-458D-9440-E08D585A0D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3355920"/>
            <a:ext cx="636876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00800" y="533412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the band = -21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(-3dB) = 17.8 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529400">
            <a:off x="7086960" y="358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Filter orde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525-69EF-42D8-B57F-29BD0C8961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59F3B-4AA7-4DF0-B1DC-658E2B3CBA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32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4.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379680"/>
            <a:ext cx="6324480" cy="347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4BD-5DE8-4839-9C67-A73F17A0BC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1469F-C9D3-4298-8E33-AD06BB67B5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3:54:07Z</dcterms:created>
  <dc:creator/>
  <dc:description/>
  <cp:keywords/>
  <dc:language>en-US</dc:language>
  <cp:lastModifiedBy>user</cp:lastModifiedBy>
  <cp:lastPrinted>2000-07-25T13:03:26Z</cp:lastPrinted>
  <dcterms:modified xsi:type="dcterms:W3CDTF">2009-03-30T16:58:28Z</dcterms:modified>
  <cp:revision>237</cp:revision>
  <dc:subject/>
  <dc:title>Resampling Analysis</dc:title>
</cp:coreProperties>
</file>