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7E0-0829-46F9-9E1A-7C0AA784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FE7-5A61-4CDA-AF99-995E8FCC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5E0-223D-4C84-980E-C542F3E9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C94-A09B-41CF-B155-0874B030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88F-4BA9-417F-8369-B540A6DF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886-9F63-4B98-97DB-704E6900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DA4-8EB1-45E9-95E5-6FC153BF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39D-2DAF-4242-9A6F-2E2722C6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31F-BE21-432E-97E6-893B39A3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257-9ABE-43C0-8EFE-D6AB3A5E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65C-1B12-437B-8562-87E5DD76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44B-3C53-4682-9AA2-432A4451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579640" y="6524280"/>
            <a:ext cx="156204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8920" y="6524280"/>
            <a:ext cx="526428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08720" y="6524280"/>
            <a:ext cx="432000" cy="144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65A03091-CCEC-41C9-B450-AB1FEAC4A9C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50520" y="189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a6c8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89000" y="189000"/>
            <a:ext cx="53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tage de fin d’études – Blaise LENG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a6c8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1440" y="6667560"/>
            <a:ext cx="441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R32 UC3000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675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7796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5740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2314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800" spc="-1" strike="noStrike">
                <a:solidFill>
                  <a:srgbClr val="0060aa"/>
                </a:solidFill>
                <a:latin typeface="Arial Black"/>
              </a:rPr>
              <a:t>Conception d’une librairie de traitement du signal </a:t>
            </a:r>
            <a:br>
              <a:rPr sz="2800"/>
            </a:br>
            <a:r>
              <a:rPr b="1" i="1" lang="fr-FR" sz="2800" spc="-1" strike="noStrike">
                <a:solidFill>
                  <a:srgbClr val="0060aa"/>
                </a:solidFill>
                <a:latin typeface="Arial Black"/>
              </a:rPr>
              <a:t>optimisée pour l’AVR32 UC3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3716280"/>
            <a:ext cx="712944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tmel Nantes S.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laise LENGRAND –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nctions – séparées en 2 librai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brairie bas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erat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ct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lt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ansformé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enêtr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ion de signa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bog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brairie avancé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ression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ADPC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éléphoni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CallerId, CAG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gulateur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PI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D2D-859D-4D34-BA43-A4C0CC4AE8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3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s à virgule-fixe sur 16 et 32 bi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s complexes (16 et 32 bi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eurs réels et complexes (16 et 32 bi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tibil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de compilable sous AVR32-GCC et I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fonction a une version générique (codée en C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algorithmes sont compatibles avec les types 16 bits et 32 bi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fonction a une version optimisée pour l’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ptions d’optimisation de l’algorithmiqu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vitesse, en taille et en précis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524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16C-C768-4FC3-A3A5-153BB5A883A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Gestion de proje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38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nning prévisionn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agramme de GANT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ses à jours réguliè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ycle en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5616360" cy="3240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80000" y="1628640"/>
            <a:ext cx="338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nning effec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apport hebdomadaire (Weekl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9C1-EE55-4F7D-B564-E82D4AD0E9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chitecture de la librair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54000" y="2543040"/>
          <a:ext cx="6445440" cy="29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543040"/>
                    <a:ext cx="6445440" cy="29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934-1254-4711-8365-0A16397428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66640" y="1811160"/>
          <a:ext cx="5862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811160"/>
                    <a:ext cx="5862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034-B777-4346-8771-0C8198FE540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3) - 1</a:t>
            </a:r>
            <a:r>
              <a:rPr b="1" lang="fr-FR" sz="2400" spc="-1" strike="noStrike" baseline="30000">
                <a:solidFill>
                  <a:srgbClr val="0060aa"/>
                </a:solidFill>
                <a:latin typeface="Arial Black"/>
              </a:rPr>
              <a:t>ère</a:t>
            </a: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 phase - Conceptio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cherche de documentations sur les algorithmes utilisé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ption et validation des algorithmes avec l’outil Scila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9A0-CD8D-4538-99A8-B4CE8CAA604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Développement (3) - 2</a:t>
            </a:r>
            <a:r>
              <a:rPr b="1" lang="fr-FR" sz="2000" spc="-1" strike="noStrike" baseline="30000">
                <a:solidFill>
                  <a:srgbClr val="0060aa"/>
                </a:solidFill>
                <a:latin typeface="Arial Black"/>
              </a:rPr>
              <a:t>ème</a:t>
            </a: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 phase - Développement</a:t>
            </a:r>
            <a:endParaRPr b="1" lang="en-US" sz="20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70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es versions génériques (16 et 32 bit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dage de l’algorithme en 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sts et débog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araisons des résultats avec ceux de la conception (Scilab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tilisation d’outils personnalisé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tits programmes codés en C sous Windows pour récupérer, extraire et afficher les résultats afin d’en faciliter l’analy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1135" t="13312" r="16362" b="34301"/>
          <a:stretch/>
        </p:blipFill>
        <p:spPr>
          <a:xfrm>
            <a:off x="5076720" y="4869000"/>
            <a:ext cx="2376720" cy="149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4437000"/>
            <a:ext cx="5112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5368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dage de l’algorithme en C et en assemble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sts et débog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0160" indent="-19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même que pour les versions génér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933720"/>
            <a:ext cx="7667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3" marL="1521360" indent="-25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es versions optimis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ACF-14C9-4933-ABCA-25542E6DDF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Développement (4) - 2</a:t>
            </a:r>
            <a:r>
              <a:rPr b="1" lang="fr-FR" sz="2000" spc="-1" strike="noStrike" baseline="30000">
                <a:solidFill>
                  <a:srgbClr val="0060aa"/>
                </a:solidFill>
                <a:latin typeface="Arial Black"/>
              </a:rPr>
              <a:t>ème</a:t>
            </a: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 phase - Développement</a:t>
            </a:r>
            <a:endParaRPr b="1" lang="en-US" sz="20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dentification de bugs (liés aux outils principalement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gzill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position d’une nouvelle instruction à rajouter au jeu d’instruction de l’AVR32 UC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div2hh.w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div2hh.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ur l’exemple de la FFT, cette instruction ferait gagner jusqu’à 20% de temps d’exécution de l’algorithm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sulta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48 fonctions codé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4287960"/>
          <a:ext cx="7056360" cy="2190600"/>
        </p:xfrm>
        <a:graphic>
          <a:graphicData uri="http://schemas.openxmlformats.org/drawingml/2006/table">
            <a:tbl>
              <a:tblPr/>
              <a:tblGrid>
                <a:gridCol w="2096280"/>
                <a:gridCol w="2025720"/>
                <a:gridCol w="293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nes de 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nes de 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irie ba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irie avanc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 60/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 30/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0EA-699E-4066-8F24-12D8AC9BDE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48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érê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 positionner par rapport à la concurr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 la conception et le développ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tilisation d’un script pour automatiser le process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ation d’un fichier de configur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ilation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cement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cupération des donné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loitation des donné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tractions des données important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lcul du taux d’erreur avec un résultat de référen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 des résultats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237-F56D-477B-81A6-37BDD779B3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488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araison entre les versions génériques (codées en C) et optimisées des fonctions de la DSPLi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En pourcentage du temps mis pour exécuter la version générique de la fonction concerné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9000" y="2975040"/>
            <a:ext cx="7372440" cy="3362040"/>
            <a:chOff x="189000" y="2975040"/>
            <a:chExt cx="7372440" cy="3362040"/>
          </a:xfrm>
        </p:grpSpPr>
        <p:graphicFrame>
          <p:nvGraphicFramePr>
            <p:cNvPr id="156" name=""/>
            <p:cNvGraphicFramePr/>
            <p:nvPr/>
          </p:nvGraphicFramePr>
          <p:xfrm>
            <a:off x="189000" y="2975040"/>
            <a:ext cx="7372440" cy="32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000" y="2975040"/>
                      <a:ext cx="7372440" cy="32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2987640" y="6060960"/>
              <a:ext cx="9367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844-9CFC-4B26-86F8-0F894F911D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ommaire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ntation de l’entrep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écifications des produits AVR32 U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ntation de la « Software Framework 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hier des char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écifications de la DSPLi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estion de proj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nchma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p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27B-E719-4E7D-96B0-67D936A3E3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3) – FF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1520" y="2419200"/>
            <a:ext cx="7566120" cy="3601800"/>
            <a:chOff x="101520" y="2419200"/>
            <a:chExt cx="7566120" cy="3601800"/>
          </a:xfrm>
        </p:grpSpPr>
        <p:grpSp>
          <p:nvGrpSpPr>
            <p:cNvPr id="162" name=""/>
            <p:cNvGrpSpPr/>
            <p:nvPr/>
          </p:nvGrpSpPr>
          <p:grpSpPr>
            <a:xfrm>
              <a:off x="101520" y="2419200"/>
              <a:ext cx="7276680" cy="2207520"/>
              <a:chOff x="101520" y="2419200"/>
              <a:chExt cx="7276680" cy="2207520"/>
            </a:xfrm>
          </p:grpSpPr>
          <p:graphicFrame>
            <p:nvGraphicFramePr>
              <p:cNvPr id="163" name=""/>
              <p:cNvGraphicFramePr/>
              <p:nvPr/>
            </p:nvGraphicFramePr>
            <p:xfrm>
              <a:off x="272880" y="2419200"/>
              <a:ext cx="7105320" cy="10569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2880" y="2419200"/>
                        <a:ext cx="7105320" cy="105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5" name=""/>
              <p:cNvGraphicFramePr/>
              <p:nvPr/>
            </p:nvGraphicFramePr>
            <p:xfrm>
              <a:off x="101520" y="3350880"/>
              <a:ext cx="6981480" cy="127584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1520" y="3350880"/>
                        <a:ext cx="6981480" cy="127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67" name=""/>
            <p:cNvGrpSpPr/>
            <p:nvPr/>
          </p:nvGrpSpPr>
          <p:grpSpPr>
            <a:xfrm>
              <a:off x="155520" y="4411440"/>
              <a:ext cx="7512120" cy="1609560"/>
              <a:chOff x="155520" y="4411440"/>
              <a:chExt cx="7512120" cy="1609560"/>
            </a:xfrm>
          </p:grpSpPr>
          <p:graphicFrame>
            <p:nvGraphicFramePr>
              <p:cNvPr id="168" name=""/>
              <p:cNvGraphicFramePr/>
              <p:nvPr/>
            </p:nvGraphicFramePr>
            <p:xfrm>
              <a:off x="155520" y="4411440"/>
              <a:ext cx="7512120" cy="16095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6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520" y="4411440"/>
                        <a:ext cx="7512120" cy="160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0" name=""/>
              <p:cNvSpPr/>
              <p:nvPr/>
            </p:nvSpPr>
            <p:spPr>
              <a:xfrm>
                <a:off x="754200" y="4468320"/>
                <a:ext cx="233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000" spc="-1" strike="noStrike">
                    <a:solidFill>
                      <a:srgbClr val="000000"/>
                    </a:solidFill>
                    <a:latin typeface="Arial"/>
                  </a:rPr>
                  <a:t>Aucune donnée disponible pour dsP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92C-EE35-40EC-A42F-085836198C5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4) – Filtres IIR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5600" y="2525760"/>
          <a:ext cx="6580080" cy="31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2525760"/>
                    <a:ext cx="658008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8F3-C133-4166-A5BA-BE3B33D83B3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5) – Filtres IIR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6360" y="2325600"/>
          <a:ext cx="651528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325600"/>
                    <a:ext cx="65152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0D4-C86B-4766-BCCA-C880C1AF4F6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6) – « TI Bench »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nchmark proposant de multiples code sources permettant d’évaluer globalement les performances d’un microcontrôleu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.I. fournit aussi les résultats du « TI Bench » exécuté sur de nombreux microcontrôleurs: dsPIC, ARM7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ploitation des résult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ien placé par rapport à la concurrence dans l’ensem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uvaise gestion des nombres à virgules-flottan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A52-BC79-4DD4-8F56-C689B36EF22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ocumentatio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out le code est documenté en Doxygen, de même pour chacun des exemp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éalisation d’une documentation complète appelée « profile » pour les fonctions importan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éation de « readme.html » permettant de naviguer rapidement dans l’architecture de la librairie et d’en ressortir les fonctionnalités principa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057-CE2E-4EB9-9D22-843CD8589A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Apport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l’entrepr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veloppement d’une librairie complète de traitement du signal optimisée pour l’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férencement de différents bugs (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position d’amélioration du cœur 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alisation de petits travaux: TI Bench, présentatio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mo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grès en optimisation d’algorithme et de code (assembleur et C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grès en traitement du sign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action de documentations techniques destinées aux clients et aux usages inter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llaboration avec d’autres ingénieu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duite d’un projet compl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74E-1458-450A-9D08-D993E49C18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ible consom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ispose de mémoire FL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cture/Ecriture de la SRAM interne en 1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nombreuses fonctionnalités do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ull speed USB 2.0 OT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hernet 10/100 Mbits (*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ultiples canaux 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eu d’instructions D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 Dhrystone MIPS/MHz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81400" y="3860640"/>
            <a:ext cx="2879640" cy="205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61977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*) Pour la série A uniqu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7F5-42F6-410F-B6F5-3BDE740E25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 étages de pipeli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e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é-chargement d’une instruction 32 bits ou de deux de 16 bits tous les cycles d’horlo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codage de l’instruc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sous-sections: ALU, Multiplication, Lecture/Ecritu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515304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8E1-F561-4C34-9C23-43BF8714B3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3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cture/Ecri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cès aux données de 8, 16, 32 ou 64 bits avec différents modes d’adress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structions DS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C, MUL, ADD/SUB avec décalages et arrond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canismes de protection de la mémoire (MPU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ible densité du co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0% plus performant que l’ARM7 (Thumb) ou le Cortex M3 (Thumb2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22A-21BD-4D71-9789-200DC23B22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Présentation de la « Software Framework » 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673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e librairie comporta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ri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urnissant une interface permettant de faire abstraction des périphériques du microcontrôleu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ser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ensemble de sous-librairies haut niveau (c’est dans ce module qu’intervient la DSPLib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exemples complets utilisant les services et les drive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5373720"/>
            <a:ext cx="3024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264200" y="1677960"/>
          <a:ext cx="3236760" cy="45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4200" y="1677960"/>
                    <a:ext cx="32367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C42-30CB-45AC-A631-27E5D12476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Cahier des charge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ption d’une librairie de traitement du signal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optimisée pour l’AVR32 U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dentifier et spécifier les principales fonctions de traitement du signal à intégrer dans la librairi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a librairie et l’intégrer dans un environnement déjà exist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au mieux les fonctions en exploitant toutes les ressources du microcontrôleu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uer des tests de performances sur les différentes fonctions de la librairie et les comparer avec la concurr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AF4-86AA-435A-93B9-0306405951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Prise en mai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u driver R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e en main des logiciels - AVR32-GNU tool chain, IAR, Tortoise SV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e en main du matériel – JTAG ICE mkII, EVK110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271476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363840" y="2852640"/>
            <a:ext cx="135252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6966" t="0" r="0" b="0"/>
          <a:stretch/>
        </p:blipFill>
        <p:spPr>
          <a:xfrm>
            <a:off x="5796000" y="2719440"/>
            <a:ext cx="120024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32080" y="2786040"/>
            <a:ext cx="148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32080" y="2786040"/>
            <a:ext cx="14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32080" y="2786040"/>
            <a:ext cx="119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328760" y="4437000"/>
            <a:ext cx="2235240" cy="216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16998" t="4316" r="17137" b="5393"/>
          <a:stretch/>
        </p:blipFill>
        <p:spPr>
          <a:xfrm>
            <a:off x="4102200" y="4581360"/>
            <a:ext cx="2054160" cy="18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04E-0CB0-40CE-B364-CACA58B54A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th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 la concurrence directe (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Microelectronics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STR91x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crochip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dsPIC DSC DSP Algorithm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 la concurrence indirecte (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xas Instrument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TMS320C64x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s librairies disponibles sur Int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umerix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SigLib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s cl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r l’intermédiaire 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gis Latawiec (marketeur du produit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40480" y="2790720"/>
            <a:ext cx="824040" cy="70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16226" r="0" b="18015"/>
          <a:stretch/>
        </p:blipFill>
        <p:spPr>
          <a:xfrm>
            <a:off x="6516720" y="1989000"/>
            <a:ext cx="984240" cy="65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5589720"/>
            <a:ext cx="71852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concurrents dont le produit est équivalent à l’AVR32 UC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concurrents mais dont le produit concerné n’est pas comparable avec l’AVR32 UC3 mais qui fournissent eux aussi une librairie DS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940360" y="4255920"/>
            <a:ext cx="158436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583-AD74-4FC7-A32D-36D1DF6340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6:23:51Z</dcterms:created>
  <dc:creator>Régis Latawiec</dc:creator>
  <dc:description/>
  <dc:language>en-US</dc:language>
  <cp:lastModifiedBy>user</cp:lastModifiedBy>
  <dcterms:modified xsi:type="dcterms:W3CDTF">2007-07-02T14:27:57Z</dcterms:modified>
  <cp:revision>1511</cp:revision>
  <dc:subject/>
  <dc:title>AVR32 - UC3000 Product Line 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