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844-07F8-402B-B723-A4241876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8D6-FF68-4F90-86EB-7244CD3A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487-5BDD-409D-8D09-08760ED5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38E-D9E3-4E19-8BE0-45388197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D08-FCF5-42B5-AF26-D4856752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793-D442-46DB-AFAE-DA17A61B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AA6-DB0F-45B7-8F49-53141CCC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1EB-61E4-4708-8AF8-4730BB1A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6EC-34D8-406B-BBE6-325CCF57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C33-91A6-48E7-BCC7-841AB7CF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589-9368-4608-BAD8-E05DBE5B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9F3-7124-4084-AF02-C7B6FA1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579640" y="6524280"/>
            <a:ext cx="156204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F82BFF11-3498-455A-BAA8-F1F7B2B1C4CE}" type="datetime5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8920" y="6524280"/>
            <a:ext cx="526428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08720" y="6524280"/>
            <a:ext cx="432000" cy="144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B99D7DD9-9786-490D-AABA-F53BDAC9C1C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50520" y="189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Presentation Title (not the current page titl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c0d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28600" y="152280"/>
            <a:ext cx="4876920" cy="320760"/>
          </a:xfrm>
          <a:prstGeom prst="rect">
            <a:avLst/>
          </a:prstGeom>
          <a:solidFill>
            <a:srgbClr val="006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Presentation Title (not the current page titl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c0d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675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7796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5740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2314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050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Resampling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80" y="26370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bis 1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.5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457200" y="3429000"/>
            <a:ext cx="6781680" cy="37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28D-15A2-4DDB-B2D9-B1C2CBBC09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A2A48-A714-45BF-BF92-18F4996AB9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usage of real ‘resample’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533520" y="2971800"/>
            <a:ext cx="9296640" cy="511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5A0-E15B-4D63-80A4-E9FD4E590C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0D5B7-E6A0-4529-B5FD-7B09480EF6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 version of Atmel AVR32 DSP resample function without the FIR Calculation stage (Matlab compute FIR coeffici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609480" y="3124080"/>
            <a:ext cx="9448560" cy="519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0400" y="59436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62520" y="5791320"/>
            <a:ext cx="121896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5926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in is below 1 due to reduction of filter bandwith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7B3-1658-4068-986C-8ED41464CE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E7A8E-2BDD-4A52-9A52-A7A36E2B0B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628640"/>
            <a:ext cx="7821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 version of Atmel AVR32 DSP resample function without the FIR Calculation stage (Matlab compute FIR coeffici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2 Khz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5181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dB gain obtained at 17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533520" y="3276720"/>
            <a:ext cx="8001000" cy="4400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5791320"/>
            <a:ext cx="60948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257440" y="5638680"/>
            <a:ext cx="16765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257800"/>
            <a:ext cx="518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in is around -6dB due to reduction of filter bandwith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B7B-01BD-4B36-8A15-B0F925214F4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DF569-3ED9-42E4-8348-67F4D5E393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Analysi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Use Atmel AVR32 DSP resample function with precalculated Matlab filter coefficients and compare the two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A5E-5859-4703-A129-BB7713B655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3ACC4-9663-4508-8286-C6C814CDDF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) Embedded release of Atmel AVR32 DSP resample function without the FIR Calculation stage (Matlab compute FIR coeffici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,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280" y="3276720"/>
            <a:ext cx="6858000" cy="3771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320" y="3657600"/>
            <a:ext cx="11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3580920"/>
            <a:ext cx="121896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312408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temporal shift is observed, same frequency f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7CF-AF45-4734-A9C4-D05102542C6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0300D-706C-4207-B34E-F92D5A9588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5486400" cy="4116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 bis) Embedded release of Atmel AVR32 DSP resample function with Atmel AVR32 DSP FIR Calculation st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,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191120"/>
            <a:ext cx="11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486400" y="3580920"/>
            <a:ext cx="1523880" cy="68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27672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temporal shift is observed, same frequency f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429000"/>
            <a:ext cx="1904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63de8"/>
                </a:solidFill>
                <a:latin typeface="Arial"/>
              </a:rPr>
              <a:t>Script resul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mbedded 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D45-C194-40C9-BAD5-69C89F6A19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14DC7-C79C-434D-A8D5-B3A90EB8B8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.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3355920"/>
            <a:ext cx="636876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00800" y="5334120"/>
            <a:ext cx="3048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the band = -21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(-3dB) = 17.8 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529400">
            <a:off x="7086960" y="358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Filter order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FBA-97D1-4D38-95F8-4C4E22657F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19F12-DB14-4FAF-AA2D-6E1C7D6F7C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bis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32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4.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379680"/>
            <a:ext cx="6324480" cy="347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741-B262-411D-AAAA-4EFC5C23D5D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701AC-5514-41F6-A316-A6C997A0EA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3:54:07Z</dcterms:created>
  <dc:creator/>
  <dc:description/>
  <cp:keywords/>
  <dc:language>en-US</dc:language>
  <cp:lastModifiedBy>user</cp:lastModifiedBy>
  <cp:lastPrinted>2000-07-25T13:03:26Z</cp:lastPrinted>
  <dcterms:modified xsi:type="dcterms:W3CDTF">2009-03-30T16:58:28Z</dcterms:modified>
  <cp:revision>237</cp:revision>
  <dc:subject/>
  <dc:title>Resampling Analysis</dc:title>
</cp:coreProperties>
</file>