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860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860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7760" y="4587480"/>
            <a:ext cx="27702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03000"/>
            <a:ext cx="8604360" cy="60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8360" y="458748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8360" y="2101320"/>
            <a:ext cx="4198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7480"/>
            <a:ext cx="86043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03000"/>
            <a:ext cx="8604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itstream Vera Serif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43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1" marL="861840" indent="-2854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2" marL="129384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3" marL="1725480" indent="-214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4" marL="21574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5" marL="21574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  <a:p>
            <a:pPr lvl="6" marL="2157480" indent="-216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itstream Vera Serif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28640" y="401760"/>
            <a:ext cx="860760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Bitstream Vera Sans"/>
              </a:rPr>
              <a:t>Twilight: Estimating the local false discovery rate</a:t>
            </a:r>
            <a:endParaRPr b="0" lang="en-US" sz="2800" spc="-1" strike="noStrike">
              <a:solidFill>
                <a:srgbClr val="000000"/>
              </a:solidFill>
              <a:latin typeface="Bitstream Vera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62040" y="1365120"/>
            <a:ext cx="44499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Inference on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two-sample design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and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correlation test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for gene expression data: Observed and expected scores, p- and q-values (global FDR).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stimation of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local FDR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 = probability that a gene is not differentially expressed at a certain u-value level (= p-value).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Estimation of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</a:rPr>
              <a:t>overall percentage </a:t>
            </a:r>
            <a:r>
              <a:rPr b="0" lang="en-GB" sz="1600" spc="-1" strike="noStrike">
                <a:solidFill>
                  <a:srgbClr val="800000"/>
                </a:solidFill>
                <a:latin typeface="Bitstream Vera Sans"/>
                <a:ea typeface="Bitstream Vera Serif"/>
              </a:rPr>
              <a:t>π</a:t>
            </a:r>
            <a:r>
              <a:rPr b="0" lang="en-GB" sz="1600" spc="-1" strike="noStrike" baseline="-33000">
                <a:solidFill>
                  <a:srgbClr val="800000"/>
                </a:solidFill>
                <a:latin typeface="Bitstream Vera Sans"/>
                <a:ea typeface="Bitstream Vera Serif"/>
              </a:rPr>
              <a:t>0</a:t>
            </a:r>
            <a:r>
              <a:rPr b="0" lang="en-GB" sz="1600" spc="-1" strike="noStrike" baseline="-33000">
                <a:solidFill>
                  <a:srgbClr val="000000"/>
                </a:solidFill>
                <a:latin typeface="Bitstream Vera Sans"/>
                <a:ea typeface="Bitstream Vera Serif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</a:rPr>
              <a:t>of differentially expressed gene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erif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Bitstream Vera Sans"/>
                <a:ea typeface="Bitstream Vera Serif"/>
              </a:rPr>
              <a:t>Diagnostic plots: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erif"/>
              </a:rPr>
              <a:t> Expected vs. observed scores, q-values vs. size of gene list, volcano and local FDR plots (see Figure).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  <a:p>
            <a:pPr marL="430200" indent="-3240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Bitstream Vera Sans"/>
                <a:ea typeface="Bitstream Vera Serif"/>
              </a:rPr>
              <a:t>Combinatorial functions</a:t>
            </a:r>
            <a:r>
              <a:rPr b="0" lang="en-GB" sz="1600" spc="-1" strike="noStrike">
                <a:solidFill>
                  <a:srgbClr val="000000"/>
                </a:solidFill>
                <a:latin typeface="Bitstream Vera Sans"/>
                <a:ea typeface="Bitstream Vera Serif"/>
              </a:rPr>
              <a:t> for complete enumeration of possible permutations.</a:t>
            </a:r>
            <a:endParaRPr b="0" lang="en-US" sz="1600" spc="-1" strike="noStrike">
              <a:solidFill>
                <a:srgbClr val="000000"/>
              </a:solidFill>
              <a:latin typeface="Bitstream Vera Serif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" name=""/>
              <p:cNvSpPr txBox="1"/>
              <p:nvPr/>
            </p:nvSpPr>
            <p:spPr>
              <a:xfrm>
                <a:off x="4713120" y="3630600"/>
                <a:ext cx="7308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" name=""/>
          <p:cNvSpPr/>
          <p:nvPr/>
        </p:nvSpPr>
        <p:spPr>
          <a:xfrm>
            <a:off x="855720" y="6165720"/>
            <a:ext cx="839772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Scheid, S &amp; Spang, R, A stochastic downhill search algorithm for estimating the local false discovery rate, </a:t>
            </a: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IEEE Transactions on Computational Biology and Bioinformatics</a:t>
            </a: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, vol. 1, p. 98-108, 200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Scheid, S &amp; Spang, R, TWILIGHT - a Bioconductor package for estimating the local false discovery rate, to appear in </a:t>
            </a:r>
            <a:r>
              <a:rPr b="0" i="1" lang="en-GB" sz="1200" spc="-1" strike="noStrike">
                <a:solidFill>
                  <a:srgbClr val="000000"/>
                </a:solidFill>
                <a:latin typeface="Bitstream Vera Sans"/>
              </a:rPr>
              <a:t>Bioinformatics</a:t>
            </a:r>
            <a:r>
              <a:rPr b="0" lang="en-GB" sz="1200" spc="-1" strike="noStrike">
                <a:solidFill>
                  <a:srgbClr val="000000"/>
                </a:solidFill>
                <a:latin typeface="Bitstream Vera Sans"/>
              </a:rPr>
              <a:t>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9440" y="1666800"/>
            <a:ext cx="4581360" cy="417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