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8FC-9B92-4A20-8750-50513F65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8B1-5192-41F9-8474-06FF542F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C6E-4477-40C0-A0BB-0C29815E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DF7-53F2-4685-99CF-178A80BA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F65A-ADE2-49B8-8CA9-91A74261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790-98FB-43CC-91B8-D9E23AD2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859-37DD-4243-A2DA-B7C5D340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31C7-0975-4A6B-84EB-0A79098B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0E7-419F-45C1-9024-85EF6D20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2EA-48FA-4668-A27A-50821468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551-C3AB-4F3F-B481-20D28C24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351-17EE-45A3-85DC-61BE4B41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1B66-E848-4562-A0AD-617A3FA75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4:55:10Z</dcterms:created>
  <dc:creator>Ralf Nebelo</dc:creator>
  <dc:description/>
  <dc:language>en-US</dc:language>
  <cp:lastModifiedBy>Ralf Nebelo</cp:lastModifiedBy>
  <dcterms:modified xsi:type="dcterms:W3CDTF">1998-07-28T12:38:51Z</dcterms:modified>
  <cp:revision>47</cp:revision>
  <dc:subject/>
  <dc:title>Kein Folientitel</dc:title>
</cp:coreProperties>
</file>